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52F-8BF6-4898-A448-87C8E0F4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A7F-ECD0-46D9-A067-5348AEC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A42-18F7-4114-AE32-0A85873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A2B-D4E7-4391-A95B-07D220A4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DC0A8-81EB-4511-B0B2-8241B37E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0A32F-FD6E-45D0-BD7F-8937293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3939-899C-478F-AD9E-EEF337A2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32DB-F607-4D94-9527-59696F65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6B886-A4FE-429A-98A8-C1854C0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188EA-9465-4239-B2DF-DACD3310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4960-6354-4E44-A4DF-BD5B2016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9D-19E1-4414-B91A-97FF2C9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98B00-7D43-4030-92E0-1067903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729C-1AAA-427C-8E79-E0B3476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5772D-044A-4BAF-956C-2708029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E5DC9-B233-4A9C-A361-567FB9B7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DEBF-2548-4D79-9A4C-AFA092D0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747-BFFD-416B-A40B-9F7600D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3CC-36E2-452A-B2AF-CA3973E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86C-8CB5-476F-8666-778809CF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119-9216-4DC8-A4CF-ABF06AF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1D6-7012-408B-8B06-99F7C16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E5A-0A41-49AB-8221-AC0421A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E94-D1EA-4403-A743-7DE5692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4EA-9150-4C3B-BBCB-9605D2453F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057-B008-4BF3-B819-F349499953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-92160" y="1163520"/>
            <a:ext cx="9680760" cy="4299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ff38"/>
                </a:solidFill>
                <a:latin typeface="Tahoma"/>
              </a:rPr>
              <a:t>Цветик-пятицвет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9" name="Рисунок 3" descr="AQQ0UYZCA0HD84HCACAZGC7CA657R8BCABYC6LMCAAT57SCCASLCHGVCA63C939CA7NJ6Q5CAWANGVBCAWY0ADTCADREYBMCAUAVPDJCALL5T9TCAUQTPI0CA6WVZSSCAK79I2HCA6GXHKPCARGMAYICAJTY8P6"/>
          <p:cNvPicPr/>
          <p:nvPr/>
        </p:nvPicPr>
        <p:blipFill>
          <a:blip r:embed="rId1"/>
          <a:stretch/>
        </p:blipFill>
        <p:spPr>
          <a:xfrm>
            <a:off x="1403280" y="692280"/>
            <a:ext cx="648180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:\сл12.png"/>
          <p:cNvPicPr/>
          <p:nvPr/>
        </p:nvPicPr>
        <p:blipFill>
          <a:blip r:embed="rId1"/>
          <a:stretch/>
        </p:blipFill>
        <p:spPr>
          <a:xfrm>
            <a:off x="1020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G:\сл13.jpg"/>
          <p:cNvPicPr/>
          <p:nvPr/>
        </p:nvPicPr>
        <p:blipFill>
          <a:blip r:embed="rId1"/>
          <a:stretch/>
        </p:blipFill>
        <p:spPr>
          <a:xfrm>
            <a:off x="34920" y="549360"/>
            <a:ext cx="9072720" cy="575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22160" y="35712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СМОЛОДУ, ПЛАТЬЕ , А, БЕРЕГИ, СНОВУ, ЗДОРОВЬЕ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ереги платье снову, а здоровье смолод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ЛЕЧИСЬ, ЗДОРОВ, А, БЕРЕГИСЬ, БОЛЕН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олен - лечись, а здоров - берегис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ЫЙ, ТЕЛЕ, В, ДУХ, ЗДОРОВОМ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В здоровом теле – здоровый ду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Е, ЗДОРОВЬЯ, ЗА, КУПИШЬ, ДЕНЬГ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ья за деньги не купиш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ТОТ, НЕ, ЗДОРОВЬЕ, НЕ, КТО, ЦЕНИТ, БОЛЕ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Кто не болел, тот не ценит здоровь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5" descr="G:\сл24.jpeg"/>
          <p:cNvPicPr/>
          <p:nvPr/>
        </p:nvPicPr>
        <p:blipFill>
          <a:blip r:embed="rId1"/>
          <a:stretch/>
        </p:blipFill>
        <p:spPr>
          <a:xfrm>
            <a:off x="1403280" y="-42840"/>
            <a:ext cx="6408720" cy="694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G:\сл25.jpg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F:\99727869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блиотека</dc:creator>
  <dc:description/>
  <dc:language>en-US</dc:language>
  <cp:lastModifiedBy>цыкуц</cp:lastModifiedBy>
  <dcterms:modified xsi:type="dcterms:W3CDTF">2021-09-26T16:42:47Z</dcterms:modified>
  <cp:revision>63</cp:revision>
  <dc:subject/>
  <dc:title>PowerPoint Presentation</dc:title>
</cp:coreProperties>
</file>